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BC9-0224-45F8-82C3-DC60D4B4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0B7-C7F4-47EC-BFC7-9B55AFB4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744-90A0-43C3-9863-1EC0EAE6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7DA-1A8B-4394-87A4-F910E52F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85CF-E71A-4DF7-B0D7-A0318CC4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476C-756C-4157-B948-13D8019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8778-5BB2-4AC3-8167-5CE6893F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C695-4FAC-4000-99BF-63C4FF1D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28A4-456D-4295-A75A-ABA7A997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0B70-44B0-4908-AF57-41F8E16B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78AD-13BF-41CB-814D-EAFF412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A8A-0645-4230-9364-F7FA3D2C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CD85-50F5-47C8-A65F-A0F430DB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5EBD-29CE-4BC3-BF7E-4C645937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9B4E-48F0-4633-911D-C0B33E0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4C45-BED5-4801-955D-24027829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6C49-9036-46E4-9FC9-8A06B72A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31E-5C5D-413C-9256-4741DD6A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956-3783-49E1-8609-F73D2E73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13C-8E16-453C-90A8-04226222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F18-A515-4D3D-9199-0EB6BA21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127-726E-4B18-95BE-A2418F8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708-EDFA-48F2-B729-DA742CD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C6D-CDA0-4A74-AB81-4449F343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745-3FBE-4C48-8957-956E19CA1A4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7631-816E-4B7E-A72B-01DABB49D30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rrengibb@gmail.com" TargetMode="External"/><Relationship Id="rId2" Type="http://schemas.openxmlformats.org/officeDocument/2006/relationships/hyperlink" Target="mailto:darrengibb@gmail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daysmeet.com/DulceChat" TargetMode="External"/><Relationship Id="rId2" Type="http://schemas.openxmlformats.org/officeDocument/2006/relationships/hyperlink" Target="http://www.todaysmeet.com/s3-dulce" TargetMode="Externa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rgibbenglish.tumblr.com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Volumes/NO%20NAME/Banchory%20Academy/Teach%20meet/ICT%20in%20the%20English%20Classroom.ppt#13. flickr" TargetMode="Externa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hyperlink" Target="file:///Volumes/NO%20NAME/Banchory%20Academy/Teach%20meet/ICT%20in%20the%20English%20Classroom.ppt#15. Others of notable mention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Volumes/NO%20NAME/Banchory%20Academy/Teach%20meet/ICT%20in%20the%20English%20Classroom.ppt#13. flickr" TargetMode="Externa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hyperlink" Target="file:///Volumes/NO%20NAME/Banchory%20Academy/Teach%20meet/ICT%20in%20the%20English%20Classroom.ppt#15. Others of notable mention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Setting.mp3" TargetMode="Externa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%5CS2%5C2x3%5Ccompleted%5Cvanessa%20,%20erin,%20brodie%20and%20emma.avi" TargetMode="External"/><Relationship Id="rId2" Type="http://schemas.openxmlformats.org/officeDocument/2006/relationships/hyperlink" Target="file:///..%5CS2%5C2x3%5Ccompleted%5Cvanessa%20,%20erin,%20brodie%20and%20emma.avi" TargetMode="External"/><Relationship Id="rId3" Type="http://schemas.openxmlformats.org/officeDocument/2006/relationships/hyperlink" Target="file:///..%5CS2%5C2x3%5Ccompleted%5Cvanessa%20,%20erin,%20brodie%20and%20emma.avi" TargetMode="External"/><Relationship Id="rId4" Type="http://schemas.openxmlformats.org/officeDocument/2006/relationships/hyperlink" Target="file:///..%5CS2%5C2x3%5Ccompleted%5CTheUntitledNews%20-%20Robert,Rachel,Daniel,Jordan.avi" TargetMode="External"/><Relationship Id="rId5" Type="http://schemas.openxmlformats.org/officeDocument/2006/relationships/hyperlink" Target="file:///..%5CS2%5C2x3%5Ccompleted%5CTheUntitledNews%20-%20Robert,Rachel,Daniel,Jordan.avi" TargetMode="External"/><Relationship Id="rId6" Type="http://schemas.openxmlformats.org/officeDocument/2006/relationships/hyperlink" Target="file:///..%5CS2%5C2x3%5Ccompleted%5CTheUntitledNews%20-%20Robert,Rachel,Daniel,Jordan.avi" TargetMode="External"/><Relationship Id="rId7" Type="http://schemas.openxmlformats.org/officeDocument/2006/relationships/hyperlink" Target="file:///..%5CS2%5C2x3%5Ccompleted%5CTheUntitledNews%20-%20Robert,Rachel,Daniel,Jordan.avi" TargetMode="External"/><Relationship Id="rId8" Type="http://schemas.openxmlformats.org/officeDocument/2006/relationships/hyperlink" Target="file:///..%5CS2%5C2x3%5Ccompleted%5CTheUntitledNews%20-%20Robert,Rachel,Daniel,Jordan.avi" TargetMode="External"/><Relationship Id="rId9" Type="http://schemas.openxmlformats.org/officeDocument/2006/relationships/image" Target="../media/image4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1-2novel.wikispaces.com/" TargetMode="External"/><Relationship Id="rId2" Type="http://schemas.openxmlformats.org/officeDocument/2006/relationships/hyperlink" Target="http://s1-2novel.wikispaces.com/" TargetMode="External"/><Relationship Id="rId3" Type="http://schemas.openxmlformats.org/officeDocument/2006/relationships/hyperlink" Target="http://s1novel.wikispaces.com/" TargetMode="External"/><Relationship Id="rId4" Type="http://schemas.openxmlformats.org/officeDocument/2006/relationships/hyperlink" Target="http://s1novel.wikispaces.com/" TargetMode="External"/><Relationship Id="rId5" Type="http://schemas.openxmlformats.org/officeDocument/2006/relationships/hyperlink" Target="http://int2mrgibb.wikispaces.com/" TargetMode="External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https://int2mrgibb.wikispaces.com/Glasgow+PowerPoints" TargetMode="External"/><Relationship Id="rId3" Type="http://schemas.openxmlformats.org/officeDocument/2006/relationships/hyperlink" Target="https://int2mrgibb.wikispaces.com/Glasgow+PowerPoints" TargetMode="External"/><Relationship Id="rId4" Type="http://schemas.openxmlformats.org/officeDocument/2006/relationships/slide" Target="slide2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85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rren 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rgibbenglish@</a:t>
            </a: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@darren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aux.iconpedia.net/uploads/1061260918.png"/>
          <p:cNvPicPr/>
          <p:nvPr/>
        </p:nvPicPr>
        <p:blipFill>
          <a:blip r:embed="rId3"/>
          <a:stretch/>
        </p:blipFill>
        <p:spPr>
          <a:xfrm>
            <a:off x="3995640" y="5084640"/>
            <a:ext cx="782640" cy="50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odaysMe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witter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squ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40 characters per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lliant wa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engag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 pupi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quick to set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user accounts need be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todaysmeet.com/Dulce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todaysmeet.com/s3-du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4.bp.blogspot.com/_pru4vsQdAQY/TMA-JeCk4WI/AAAAAAAABO8/e_IWzJ5If2o/s400/TodaysMeet.jpg"/>
          <p:cNvPicPr/>
          <p:nvPr/>
        </p:nvPicPr>
        <p:blipFill>
          <a:blip r:embed="rId3"/>
          <a:stretch/>
        </p:blipFill>
        <p:spPr>
          <a:xfrm>
            <a:off x="5724360" y="333360"/>
            <a:ext cx="3198960" cy="835200"/>
          </a:xfrm>
          <a:prstGeom prst="rect">
            <a:avLst/>
          </a:prstGeom>
          <a:ln w="0">
            <a:noFill/>
          </a:ln>
        </p:spPr>
      </p:pic>
      <p:sp>
        <p:nvSpPr>
          <p:cNvPr id="147" name="Rounded Rectangle 4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>
            <a:hlinkClick r:id="rId4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900000" y="1773360"/>
            <a:ext cx="7632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lly just started playing about with at the weekend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mrgibbenglish.tumblr.co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run a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sharing photo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tumblr.tiff"/>
          <p:cNvPicPr/>
          <p:nvPr/>
        </p:nvPicPr>
        <p:blipFill>
          <a:blip r:embed="rId2"/>
          <a:stretch/>
        </p:blipFill>
        <p:spPr>
          <a:xfrm>
            <a:off x="6156360" y="476280"/>
            <a:ext cx="2666880" cy="736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umblr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900000" y="162864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used with a smartphone (iPhone, Blackberry, HTC etc – a phone which you are able to download and use apps 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allows you to download the app and simply upload the pictures from your phone to the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 use a digital camera and upload images to flickr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for capturing pupil groupwork, such as mindmap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reference for homework or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ink from blog or wi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t.ly/int2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flickr.tiff"/>
          <p:cNvPicPr/>
          <p:nvPr/>
        </p:nvPicPr>
        <p:blipFill>
          <a:blip r:embed="rId1"/>
          <a:stretch/>
        </p:blipFill>
        <p:spPr>
          <a:xfrm>
            <a:off x="6588000" y="404640"/>
            <a:ext cx="2087640" cy="801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lick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2"/>
          <p:cNvSpPr/>
          <p:nvPr/>
        </p:nvSpPr>
        <p:spPr>
          <a:xfrm>
            <a:off x="755640" y="1773360"/>
            <a:ext cx="82090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collaborative word processing t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everything else, free to use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ignup requi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at has to be done is a unique link shared to join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upil allocated different colour, so is clear who has written w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go here: http://bit.ly/titanpadtest to experi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titanpad.tiff"/>
          <p:cNvPicPr/>
          <p:nvPr/>
        </p:nvPicPr>
        <p:blipFill>
          <a:blip r:embed="rId1"/>
          <a:stretch/>
        </p:blipFill>
        <p:spPr>
          <a:xfrm>
            <a:off x="6084720" y="476280"/>
            <a:ext cx="2692440" cy="673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tanP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2" name="Picture 5" descr="syncin.tiff"/>
          <p:cNvPicPr/>
          <p:nvPr/>
        </p:nvPicPr>
        <p:blipFill>
          <a:blip r:embed="rId2"/>
          <a:stretch/>
        </p:blipFill>
        <p:spPr>
          <a:xfrm>
            <a:off x="5076720" y="4149720"/>
            <a:ext cx="3683160" cy="749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75564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ilar idea to TitanPad; a collaborative word processor. Again, no signup i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55640" y="4149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c.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lacema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55640" y="1773360"/>
            <a:ext cx="7993080" cy="4751280"/>
          </a:xfrm>
          <a:prstGeom prst="rect">
            <a:avLst/>
          </a:prstGeom>
          <a:solidFill>
            <a:srgbClr val="ffffe1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Pup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195640" y="3068640"/>
            <a:ext cx="4752720" cy="2232000"/>
          </a:xfrm>
          <a:prstGeom prst="rect">
            <a:avLst/>
          </a:prstGeom>
          <a:solidFill>
            <a:srgbClr val="ffffe1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 flipV="1">
            <a:off x="4572000" y="1773360"/>
            <a:ext cx="0" cy="129528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 flipV="1">
            <a:off x="6948360" y="4149360"/>
            <a:ext cx="1800360" cy="3492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4572000" y="5300640"/>
            <a:ext cx="0" cy="122400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3"/>
          <p:cNvSpPr/>
          <p:nvPr/>
        </p:nvSpPr>
        <p:spPr>
          <a:xfrm flipH="1" flipV="1">
            <a:off x="755640" y="4149360"/>
            <a:ext cx="1440000" cy="3492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2268360" y="3141720"/>
            <a:ext cx="439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900000" y="191628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6084720" y="19162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 rot="10800000">
            <a:off x="826920" y="4739760"/>
            <a:ext cx="25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 rot="10800000">
            <a:off x="6084360" y="466704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21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thers of notable m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755640" y="1557360"/>
            <a:ext cx="813744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websites which I have limited experience with. Feedback from teachers around the world suggest that they are invaluable to their tea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o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ke a facebook page for your clas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pupil has their own logi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0% safe and sec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ility to share links; video; pics; share info; upload work; comment on others’ work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-o-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 audio to your powerpo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sentially create a movie out of them, moving slides at your own ace and adding audio to give further explanations (as you would in the classro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 be excellent for revis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pils could also use it to add further explanations from your powerpoint no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ounded Rectangle 4"/>
          <p:cNvSpPr/>
          <p:nvPr/>
        </p:nvSpPr>
        <p:spPr>
          <a:xfrm>
            <a:off x="1979640" y="1557360"/>
            <a:ext cx="3240000" cy="5183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5183280"/>
              <a:gd name="textAreaBottom" fmla="*/ 5025240 h 5183280"/>
            </a:gdLst>
            <a:ahLst/>
            <a:rect l="textAreaLeft" t="textAreaTop" r="textAreaRight" b="textAreaBottom"/>
            <a:pathLst>
              <a:path w="21600" h="34554">
                <a:moveTo>
                  <a:pt x="3600" y="0"/>
                </a:moveTo>
                <a:arcTo wR="3600" hR="3600" stAng="16200000" swAng="-5400000"/>
                <a:lnTo>
                  <a:pt x="0" y="30954"/>
                </a:lnTo>
                <a:arcTo wR="3600" hR="3600" stAng="10800000" swAng="-5400000"/>
                <a:lnTo>
                  <a:pt x="18000" y="3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5076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68360" y="1771560"/>
            <a:ext cx="27352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Podca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FlipC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Wikisp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G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Ever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TodaysM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US" sz="4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ounded Rectangle 5"/>
          <p:cNvSpPr/>
          <p:nvPr/>
        </p:nvSpPr>
        <p:spPr>
          <a:xfrm>
            <a:off x="5435640" y="1844640"/>
            <a:ext cx="2521080" cy="4896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896000"/>
              <a:gd name="textAreaBottom" fmla="*/ 4773240 h 4896000"/>
            </a:gdLst>
            <a:ahLst/>
            <a:rect l="textAreaLeft" t="textAreaTop" r="textAreaRight" b="textAreaBottom"/>
            <a:pathLst>
              <a:path w="21600" h="41945">
                <a:moveTo>
                  <a:pt x="3600" y="0"/>
                </a:moveTo>
                <a:arcTo wR="3600" hR="3600" stAng="16200000" swAng="-5400000"/>
                <a:lnTo>
                  <a:pt x="0" y="38345"/>
                </a:lnTo>
                <a:arcTo wR="3600" hR="3600" stAng="10800000" swAng="-5400000"/>
                <a:lnTo>
                  <a:pt x="18000" y="4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Tumbl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Flick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TitanPad / </a:t>
            </a: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Sync.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Place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Others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4"/>
          <p:cNvSpPr/>
          <p:nvPr/>
        </p:nvSpPr>
        <p:spPr>
          <a:xfrm>
            <a:off x="1979640" y="1557360"/>
            <a:ext cx="3240000" cy="5183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5183280"/>
              <a:gd name="textAreaBottom" fmla="*/ 5025240 h 5183280"/>
            </a:gdLst>
            <a:ahLst/>
            <a:rect l="textAreaLeft" t="textAreaTop" r="textAreaRight" b="textAreaBottom"/>
            <a:pathLst>
              <a:path w="21600" h="34554">
                <a:moveTo>
                  <a:pt x="3600" y="0"/>
                </a:moveTo>
                <a:arcTo wR="3600" hR="3600" stAng="16200000" swAng="-5400000"/>
                <a:lnTo>
                  <a:pt x="0" y="30954"/>
                </a:lnTo>
                <a:arcTo wR="3600" hR="3600" stAng="10800000" swAng="-5400000"/>
                <a:lnTo>
                  <a:pt x="18000" y="3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95076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268360" y="1771560"/>
            <a:ext cx="27352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Podca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FlipC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Wikisp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G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Ever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TodaysM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US" sz="4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5435640" y="1844640"/>
            <a:ext cx="2521080" cy="4896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896000"/>
              <a:gd name="textAreaBottom" fmla="*/ 4773240 h 4896000"/>
            </a:gdLst>
            <a:ahLst/>
            <a:rect l="textAreaLeft" t="textAreaTop" r="textAreaRight" b="textAreaBottom"/>
            <a:pathLst>
              <a:path w="21600" h="41945">
                <a:moveTo>
                  <a:pt x="3600" y="0"/>
                </a:moveTo>
                <a:arcTo wR="3600" hR="3600" stAng="16200000" swAng="-5400000"/>
                <a:lnTo>
                  <a:pt x="0" y="38345"/>
                </a:lnTo>
                <a:arcTo wR="3600" hR="3600" stAng="10800000" swAng="-5400000"/>
                <a:lnTo>
                  <a:pt x="18000" y="4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Tumbl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Flick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TitanPad / </a:t>
            </a: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Sync.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Place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Others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odcas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udacity: Free Sound Editor and Recording Software"/>
          <p:cNvPicPr/>
          <p:nvPr/>
        </p:nvPicPr>
        <p:blipFill>
          <a:blip r:embed="rId1"/>
          <a:stretch/>
        </p:blipFill>
        <p:spPr>
          <a:xfrm>
            <a:off x="684360" y="1557360"/>
            <a:ext cx="2409840" cy="952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755640" y="2637000"/>
            <a:ext cx="8064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software that is installed on most school computers – if not, IT technicians will be able to install on multiple 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ly easy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put differen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be converted into mp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Audioboo_1578813c"/>
          <p:cNvPicPr/>
          <p:nvPr/>
        </p:nvPicPr>
        <p:blipFill>
          <a:blip r:embed="rId2"/>
          <a:stretch/>
        </p:blipFill>
        <p:spPr>
          <a:xfrm>
            <a:off x="684360" y="4653000"/>
            <a:ext cx="2881080" cy="9367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826920" y="53802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way to record podcast via ipod/iphone and directly upload to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an then be download as an mp3 or through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Tu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for listening/talking exerc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Example -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136000" y="5634000"/>
            <a:ext cx="100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4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>
            <a:hlinkClick r:id="rId4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lipC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xample – Girls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’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Example – Boys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’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 + girl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’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way for pupils to take control of their own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group work, creates an ethos of accountability within the group dyna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s can be easily edited with Windows Movie Maker or Serif – schools should have either/or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 reports, play scenes, multimedia pupil-created text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justjon.net/wp-content/uploads/2011/04/flip-cam.jpeg"/>
          <p:cNvPicPr/>
          <p:nvPr/>
        </p:nvPicPr>
        <p:blipFill>
          <a:blip r:embed="rId9"/>
          <a:stretch/>
        </p:blipFill>
        <p:spPr>
          <a:xfrm>
            <a:off x="6286680" y="0"/>
            <a:ext cx="285732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>
            <a:hlinkClick r:id="rId10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ikiSp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way of producing and displaying collaborativ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with the whol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et up and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1.2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ollaborativ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1.5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Collaborativ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Int 2 English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thethinkingstick.com/images/2011/02/wikispaces.gif"/>
          <p:cNvPicPr/>
          <p:nvPr/>
        </p:nvPicPr>
        <p:blipFill>
          <a:blip r:embed="rId6"/>
          <a:stretch/>
        </p:blipFill>
        <p:spPr>
          <a:xfrm>
            <a:off x="6286680" y="0"/>
            <a:ext cx="2857320" cy="141300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>
            <a:hlinkClick r:id="rId7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Glo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you make of 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ase of taking your time to familiarise yourself – and pupils – with the way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has improved greatly since the first time we saw – and gave up –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ork; I have used it for revision materials and discussion for when pupils are on exam le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can find it frustrating to work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http://status.glowscotland.org.uk/logo.gif"/>
          <p:cNvPicPr/>
          <p:nvPr/>
        </p:nvPicPr>
        <p:blipFill>
          <a:blip r:embed="rId1"/>
          <a:stretch/>
        </p:blipFill>
        <p:spPr>
          <a:xfrm>
            <a:off x="755640" y="189000"/>
            <a:ext cx="1933560" cy="1152360"/>
          </a:xfrm>
          <a:prstGeom prst="rect">
            <a:avLst/>
          </a:prstGeom>
          <a:ln w="0">
            <a:noFill/>
          </a:ln>
        </p:spPr>
      </p:pic>
      <p:sp>
        <p:nvSpPr>
          <p:cNvPr id="132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GoogleDo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oretically, a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grea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ol to use in the classro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hool computers can struggle with them and The Powers That Be in the authority are reluctant to change –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or now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ever, great for homework – collaborative powerpoints can be easily created, using notes from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flick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hel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 2 English: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ollaborative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Power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encourage pupils to create an account and use it at home to print off in schoo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rid of the “I forgot my memory stick…” excuse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7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>
            <a:hlinkClick r:id="rId4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googledocs.tiff"/>
          <p:cNvPicPr/>
          <p:nvPr/>
        </p:nvPicPr>
        <p:blipFill>
          <a:blip r:embed="rId5"/>
          <a:stretch/>
        </p:blipFill>
        <p:spPr>
          <a:xfrm>
            <a:off x="3925800" y="476280"/>
            <a:ext cx="5221440" cy="74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Everno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chang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e to – as they claim – ‘remember everything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used on almost any mobile phone with an internet connection (non-3G, 3G, wif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s seamlessly with browser/desktop 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– allow you to find anything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– can even search for text within images – ‘cinema talk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 on phone and instantly upload to evern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or a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Evernote logo"/>
          <p:cNvPicPr/>
          <p:nvPr/>
        </p:nvPicPr>
        <p:blipFill>
          <a:blip r:embed="rId1"/>
          <a:stretch/>
        </p:blipFill>
        <p:spPr>
          <a:xfrm>
            <a:off x="5580000" y="404640"/>
            <a:ext cx="3306960" cy="827280"/>
          </a:xfrm>
          <a:prstGeom prst="rect">
            <a:avLst/>
          </a:prstGeom>
          <a:ln w="0">
            <a:noFill/>
          </a:ln>
        </p:spPr>
      </p:pic>
      <p:sp>
        <p:nvSpPr>
          <p:cNvPr id="142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9:07:23Z</dcterms:created>
  <dc:creator>Mr D. Gibb</dc:creator>
  <dc:description/>
  <dc:language>en-US</dc:language>
  <cp:lastModifiedBy>Darren Gibb</cp:lastModifiedBy>
  <dcterms:modified xsi:type="dcterms:W3CDTF">2012-02-18T18:33:04Z</dcterms:modified>
  <cp:revision>45</cp:revision>
  <dc:subject/>
  <dc:title>ICT in the English Classroom</dc:title>
</cp:coreProperties>
</file>